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3E5-DA2C-411D-87F4-497881AB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B35-3817-4E86-A520-FAC3AE28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5A3-E868-4418-AE03-CBE29D8A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21E-57F2-4164-8B53-7B2CB87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301D-EC0D-4257-AD5F-39B8E793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DE579-BD22-4D07-AC09-60EE77FD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CF2E0-12EC-4C6A-997A-970B742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D21AC-4056-4447-8CEA-477B62E8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4E8D5-F406-4E48-A905-254BBD3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5B85-5C5B-4DE0-BDC7-B7B9A86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FBEFA-1874-4ECF-B2DF-D26F81D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EDF-6D12-4C4B-95D0-D5AD80CC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C7FF0-D770-4995-8DE0-0905D7D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A4EF-1C74-4A3A-965E-A7199EA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A16A3-48BC-49E2-BE08-DDA6EE6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C2C87-4098-4A82-8000-F060ABAA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89EE-D073-426E-B0A4-6CC71D30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379-B9DB-4587-A69A-93D0D40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7B4-525C-429C-9055-14A45C8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690-D6AB-478B-BA54-11533AB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6CE-1BD9-4030-BE6E-5D41818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859-B41A-4CD2-97B1-1B6DC23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3DD-79DC-4182-8BF0-AECADFF0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639-CE4D-4638-9E21-6D4B335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FF6-72F8-46A0-B08F-E9B05C5DF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010-8A9E-497C-A0FD-26232CF6FE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Прямоугольник 5" descr=""/>
          <p:cNvPicPr/>
          <p:nvPr/>
        </p:nvPicPr>
        <p:blipFill>
          <a:blip r:embed="rId2"/>
          <a:stretch/>
        </p:blipFill>
        <p:spPr>
          <a:xfrm>
            <a:off x="523800" y="1444680"/>
            <a:ext cx="81694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1" descr="http://i.artfile.ru/3536x3534_402397_%5bwww.ArtFile.ru%5d.jpg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6794640" y="4648320"/>
            <a:ext cx="2009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ДЕВОЧКА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ПЕРСИКАМИ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Рисунок 1" descr="http://img827.imageshack.us/img827/9316/1chicadelaluzdelsolretr.jpg"/>
          <p:cNvPicPr/>
          <p:nvPr/>
        </p:nvPicPr>
        <p:blipFill>
          <a:blip r:embed="rId1"/>
          <a:stretch/>
        </p:blipFill>
        <p:spPr>
          <a:xfrm>
            <a:off x="228600" y="152280"/>
            <a:ext cx="5410080" cy="64771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6095880" y="4419720"/>
            <a:ext cx="25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Девушк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свещен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олнц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1" descr="http://img1.liveinternet.ru/images/attach/c/8/102/732/102732263_Valentin_Serov.jp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2804400" y="6019920"/>
            <a:ext cx="413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Похищение Европ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Рисунок 1" descr="http://900igr.net/datas/izo/Portrety-CHekhova/0007-007-I.Levitan-1860-1900.jpg"/>
          <p:cNvPicPr/>
          <p:nvPr/>
        </p:nvPicPr>
        <p:blipFill>
          <a:blip r:embed="rId1"/>
          <a:stretch/>
        </p:blipFill>
        <p:spPr>
          <a:xfrm>
            <a:off x="457200" y="304920"/>
            <a:ext cx="839628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Рисунок 1" descr="http://img.aucland.ru/market-photos/358/PqAquT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042440" y="609588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1" descr="http://content.foto.mail.ru/mail/chestova/_blogs/i-1188.jpg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100960" y="6095880"/>
            <a:ext cx="46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Garamond"/>
              </a:rPr>
              <a:t>ВЕСНА. БОЛЬШАЯ ВОД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Рисунок 1" descr="http://mamatanya.narod.ru/x-gallery/images/levitan-3.gif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81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2559600" y="57913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ОЛОТАЯ ОСЕН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Рисунок 1" descr="http://802351.info/uploads/posts/2012-01/thumbs/article_13264636828.jpeg"/>
          <p:cNvPicPr/>
          <p:nvPr/>
        </p:nvPicPr>
        <p:blipFill>
          <a:blip r:embed="rId1"/>
          <a:stretch/>
        </p:blipFill>
        <p:spPr>
          <a:xfrm>
            <a:off x="685800" y="457200"/>
            <a:ext cx="4648320" cy="5638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5880240" y="3581280"/>
            <a:ext cx="2782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СНЕЦ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ИКТОР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МИХАЙЛ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48 – 1926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1" descr="http://tainy.net/wp-content/uploads/2010/11/1266993421_image0011.jpg"/>
          <p:cNvPicPr/>
          <p:nvPr/>
        </p:nvPicPr>
        <p:blipFill>
          <a:blip r:embed="rId1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160080" y="6019920"/>
            <a:ext cx="2364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Garamond"/>
              </a:rPr>
              <a:t>БОГАТЫРИ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Рисунок 1" descr="http://i.flamber.ru/files/st1/1163446826/1300533709_o.jpg"/>
          <p:cNvPicPr/>
          <p:nvPr/>
        </p:nvPicPr>
        <p:blipFill>
          <a:blip r:embed="rId1"/>
          <a:stretch/>
        </p:blipFill>
        <p:spPr>
          <a:xfrm>
            <a:off x="91440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6881040" y="4267080"/>
            <a:ext cx="18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КОВЕР –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САМОЛЕТ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АННОТАЦИЯ ПРОЕКТ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рубеж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ов окружавший человека мир, стремительно изменяясь, приобрел существенно новые черты. Россия проходила стадию всесторонней модернизации. 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модерн»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требляли и для обозначения явлений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ультуры: говорили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дернизме-совокуп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вых художествен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правлений. Веч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р в искусстве -между но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привычным, устоявшим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иг в это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айней остроты.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Рисунок 1" descr="http://www.artsait.ru/art/k/korovinSA/img/1sm.jpg"/>
          <p:cNvPicPr/>
          <p:nvPr/>
        </p:nvPicPr>
        <p:blipFill>
          <a:blip r:embed="rId1"/>
          <a:stretch/>
        </p:blipFill>
        <p:spPr>
          <a:xfrm>
            <a:off x="1143000" y="228600"/>
            <a:ext cx="4762440" cy="647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6085440" y="2666880"/>
            <a:ext cx="27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РОВ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НСТАНТ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АЛЕКС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61 – 1939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1" descr="http://s46.radikal.ru/i111/0807/a6/8b8658fad370.jp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3680640" y="594360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ЗИМО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Рисунок 1" descr="http://paintingart.ru/joomgallery/details/___3/__4/___32/_20111012_1354897190.jpg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1838520" y="5867280"/>
            <a:ext cx="5065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Garamond"/>
              </a:rPr>
              <a:t>МОСКВОРЕЦКИЙ МОСТ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сканирование0001"/>
          <p:cNvPicPr/>
          <p:nvPr/>
        </p:nvPicPr>
        <p:blipFill>
          <a:blip r:embed="rId1"/>
          <a:stretch/>
        </p:blipFill>
        <p:spPr>
          <a:xfrm>
            <a:off x="0" y="3124080"/>
            <a:ext cx="2819520" cy="3733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ВЕСТНИК ИНЫХ МИРОВ</a:t>
            </a:r>
            <a:br>
              <a:rPr sz="36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52320" y="12949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воплотивший в своей судьбе новый тип  художни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ца-демиурга и прозрев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н жизни, поражал зр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бытной манерой пись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азавшейся пророческой для нов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удожественных направ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как всякий предт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 одинок. Он вызывал недоум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человек и возму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художник. Лишь в конце жизн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да Врубель был погружен в мр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мертного, к нему пришло призн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М. А. Вруб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ЗНАМЕНИТЫЕ</a:t>
            </a:r>
            <a:r>
              <a:rPr b="1" i="1" lang="ru-RU" sz="44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2193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 - персонаж древнегрече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ологии, но в полот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метно «обрусел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, божество л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полей, выступает ее символ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364000" y="2743200"/>
            <a:ext cx="37800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62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3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42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Monotype Corsiva"/>
              </a:rPr>
              <a:t>«СИМВОЛ НАШЕГО ВРЕМЕНИ»</a:t>
            </a:r>
            <a:br>
              <a:rPr sz="3600"/>
            </a:br>
            <a:r>
              <a:rPr b="0" i="1" lang="ru-RU" sz="36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i="1" lang="ru-RU" sz="2900" spc="-1" strike="noStrike">
                <a:solidFill>
                  <a:srgbClr val="e3e3ff"/>
                </a:solidFill>
                <a:latin typeface="Arial"/>
              </a:rPr>
              <a:t>А. Блок</a:t>
            </a:r>
            <a:endParaRPr b="0" lang="en-US" sz="2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МОН,- по слов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 – дух 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лько злоб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страд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корбный, при э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ух власт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вый. Влюбл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ртину Блок писал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и день, ни ночь, ни м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свет».</a:t>
            </a: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14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8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2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14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86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3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2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9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1" descr="http://img0.liveinternet.ru/images/attach/c/2/68/696/68696996_e4ebd4e6.jpg"/>
          <p:cNvPicPr/>
          <p:nvPr/>
        </p:nvPicPr>
        <p:blipFill>
          <a:blip r:embed="rId1"/>
          <a:stretch/>
        </p:blipFill>
        <p:spPr>
          <a:xfrm>
            <a:off x="914400" y="304920"/>
            <a:ext cx="464832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5972760" y="3048120"/>
            <a:ext cx="306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Garamond"/>
              </a:rPr>
              <a:t>ЦАРЕВНА –ЛЕБЕДЬ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1" descr="http://900igr.net/datas/mkhk/Arkhitektura-nachala-20-veka/0008-008-Nachalo-XX-veka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Рисунок 1" descr="http://www.mskvd.ru/images/moscow_arhitektors/449px-fyodor_schechtel_1890th-05032012.jpg"/>
          <p:cNvPicPr/>
          <p:nvPr/>
        </p:nvPicPr>
        <p:blipFill>
          <a:blip r:embed="rId1"/>
          <a:stretch/>
        </p:blipFill>
        <p:spPr>
          <a:xfrm>
            <a:off x="685800" y="457200"/>
            <a:ext cx="4276800" cy="5705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5992200" y="2590920"/>
            <a:ext cx="185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Шехтель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Федор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Осипович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1" descr="http://900igr.net/datas/mkhk/Arkhitektura-nachala-20-veka/0011-011-Modern.jpg"/>
          <p:cNvPicPr/>
          <p:nvPr/>
        </p:nvPicPr>
        <p:blipFill>
          <a:blip r:embed="rId1"/>
          <a:stretch/>
        </p:blipFill>
        <p:spPr>
          <a:xfrm>
            <a:off x="219240" y="249120"/>
            <a:ext cx="8772480" cy="63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Цели и задачи мероприят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066320"/>
            <a:ext cx="830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достижениями русской культуры начала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X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двести учащихся к пониманию су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ых ценностей новых        направлений в искусстве начал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ировать умения делать выво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отно излагать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6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6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Рисунок 1" descr="http://f12.ifotki.info/org/c7cb00293294c5e29d6b1c633ffaa0ffbc5f6c140900195.jpg"/>
          <p:cNvPicPr/>
          <p:nvPr/>
        </p:nvPicPr>
        <p:blipFill>
          <a:blip r:embed="rId1"/>
          <a:stretch/>
        </p:blipFill>
        <p:spPr>
          <a:xfrm>
            <a:off x="131760" y="457200"/>
            <a:ext cx="8894880" cy="594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1" descr="http://www.kolohouse.ru/uploads/cgstories/id36/fomin_02.jpg"/>
          <p:cNvPicPr/>
          <p:nvPr/>
        </p:nvPicPr>
        <p:blipFill>
          <a:blip r:embed="rId1"/>
          <a:stretch/>
        </p:blipFill>
        <p:spPr>
          <a:xfrm>
            <a:off x="304920" y="0"/>
            <a:ext cx="5410080" cy="762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172200" y="2895480"/>
            <a:ext cx="2819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Фоми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Ива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Рисунок 1" descr="http://900igr.net/datas/mkhk/Arkhitektura-nachala-20-veka/0015-015-Neoklassitsizm.jpg"/>
          <p:cNvPicPr/>
          <p:nvPr/>
        </p:nvPicPr>
        <p:blipFill>
          <a:blip r:embed="rId1"/>
          <a:stretch/>
        </p:blipFill>
        <p:spPr>
          <a:xfrm>
            <a:off x="380880" y="380880"/>
            <a:ext cx="8331480" cy="624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Рисунок 1" descr="http://i0.newstube.ru/1788808l"/>
          <p:cNvPicPr/>
          <p:nvPr/>
        </p:nvPicPr>
        <p:blipFill>
          <a:blip r:embed="rId1"/>
          <a:stretch/>
        </p:blipFill>
        <p:spPr>
          <a:xfrm>
            <a:off x="-762120" y="609480"/>
            <a:ext cx="647712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6332400" y="2743200"/>
            <a:ext cx="2632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Щусе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Алексе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икторович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1873-1949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1" descr="http://www.kulichki.com/zritel/2008/image2008/kazan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1144800" y="6095880"/>
            <a:ext cx="66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КАЗАНСКИЙ ВОКЗАЛ В МОСКВ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Рисунок 1" descr="http://www.aif.by/media/k2/items/cache/46d119b0fce0513a8f317451330a29c3_L.jpg"/>
          <p:cNvPicPr/>
          <p:nvPr/>
        </p:nvPicPr>
        <p:blipFill>
          <a:blip r:embed="rId1"/>
          <a:stretch/>
        </p:blipFill>
        <p:spPr>
          <a:xfrm>
            <a:off x="380880" y="380880"/>
            <a:ext cx="5715000" cy="4305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790920" y="5486400"/>
            <a:ext cx="769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Рахманинов Сергей Васильевич (1873 – 1943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Рисунок 1" descr="http://cdn.haberfx.net/images/photo/164/8.jpg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7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264720" y="3048120"/>
            <a:ext cx="25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травински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Игорь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Федоро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82 – 1971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Рисунок 1" descr="http://s3.timetoast.com/public/uploads/photos/3105179/imagesCA7337FD.jpg?1351869199"/>
          <p:cNvPicPr/>
          <p:nvPr/>
        </p:nvPicPr>
        <p:blipFill>
          <a:blip r:embed="rId1"/>
          <a:stretch/>
        </p:blipFill>
        <p:spPr>
          <a:xfrm>
            <a:off x="326880" y="380880"/>
            <a:ext cx="4488120" cy="586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958720" y="2819520"/>
            <a:ext cx="23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Прокофьев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91 – 1953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Monotype Corsiva"/>
              </a:rPr>
              <a:t>Вывод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еребряный век рассматривается как период расцвета духовной культуры, котор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ся в 90 годы XIX в. и завершился в конце 20-х годов XX в. Оставил колоссальный след в развитии российского 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3e3ff"/>
                </a:solidFill>
                <a:latin typeface="Monotype Corsiva"/>
              </a:rPr>
              <a:t>Наука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к П.Н.Лебедев создал первую в России физическую шкалу, а также сделал открытия в области физики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усский учёный В.И. Вернадский создал учения о биосфере и ноосфере, которые заложили основу современной эк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олог И.П.Павлов создал учение о высшей нервной деятельности. В 1904г. Ему была присвоена Нобелевская премия за исследования в физиологии пищева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яд выдающихся открытий в практике самолётостроения сделал Н.Е.Жуков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305257"/>
          <p:cNvPicPr/>
          <p:nvPr/>
        </p:nvPicPr>
        <p:blipFill>
          <a:blip r:embed="rId1"/>
          <a:stretch/>
        </p:blipFill>
        <p:spPr>
          <a:xfrm>
            <a:off x="7380360" y="4653000"/>
            <a:ext cx="136836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Кинематограф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" descr="latvia1d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появления нового вида искусства – кинематографии. К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4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оду в России было построено около 4тыс. кинотеа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08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. была снята первая русская игровая картина «Стенька Разин и княжна», а 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1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. – первый фильм «Оборона Севастопол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России появляются деятели кино с мировыми именами: реж. Я.Протазан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актёры И. Мозжухин, В.Максимов и многие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2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63416"/>
                </a:solidFill>
                <a:latin typeface="Monotype Corsiva"/>
              </a:rPr>
              <a:t>Музы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2" descr="italija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творческого взлёта великих русских композиторов А.Скрябина, И. Стравинского, С.Рахманинова и др.</a:t>
            </a: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своём творчестве они пытались вырваться из рамок традиционной классической музыки, создать новые музыкальные формы и образ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Значительного расцвета достигла музыкальная исполнительная куль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Самыми знаменитыми людьми того времени были  Ф.Шаляпин, А.Нежданова, Л.Собинова, И.Ерш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4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0460259157105087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Литератур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620280"/>
            <a:ext cx="91440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Среди поэтов начала ХХ века происходит деление на символистов, акмеистов и футур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Символ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были против оскудения русской поэзии. Они считали, что поэт наделён способностью приобщения к запредельному миру посредством художественных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Акмеисты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(от греч. «акме» - высшая степень чего-либо) призывали возвратить словам их традиционный смысл, освободив от символических толкований. Для акмеистов (Н.Гумилёв, А.Ахматова, М. Зенкевич, В. Нарбут) были характерны красота и отточенность художественного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Футур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(В. Хлебников, Д. Бурлюк, В.Маяковский, Е. Гуро) утверждали своё право на конструирование новых слов. Футуристы ориентировались также на вызывающую антиэстетичность.</a:t>
            </a:r>
            <a:r>
              <a:rPr b="1" i="1" lang="ru-RU" sz="2400" spc="-1" strike="noStrike">
                <a:solidFill>
                  <a:srgbClr val="99cc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7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4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8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9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9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380880" y="914400"/>
            <a:ext cx="838224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Живопись серебряного век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-394200" y="2895480"/>
            <a:ext cx="1003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удожников Серебряного века интересовали не глоба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торические события, а эстетика русского бы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тонченная красота древнерусского узорочья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никновенным лиризмом, глубоким поним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образия жизненного укла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мечены лучшие полотна худож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1" descr="http://img0.liveinternet.ru/images/attach/c/1/56/585/56585457_Portret_hudozhnika_Surikova.jpg"/>
          <p:cNvPicPr/>
          <p:nvPr/>
        </p:nvPicPr>
        <p:blipFill>
          <a:blip r:embed="rId1"/>
          <a:stretch/>
        </p:blipFill>
        <p:spPr>
          <a:xfrm>
            <a:off x="380880" y="304920"/>
            <a:ext cx="4419720" cy="5943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821920" y="2362320"/>
            <a:ext cx="3321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ЕР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ЛЕНТИН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65 -1911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da</cp:lastModifiedBy>
  <dcterms:modified xsi:type="dcterms:W3CDTF">2014-03-01T18:46:0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